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ADA-BB93-4B7B-8919-DC542301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13D-5B53-4293-96BD-4011458F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D6B-D97A-4990-B038-E203550C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BF3-36E5-4713-A9D3-C118BBAD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926-3740-4FCE-867A-466E60A9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A43-E0F8-4412-8274-9518CEB2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929-AE13-4A39-8FFD-F2C84D14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61E-E604-4C17-A3AA-34573607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DA23-3D3A-489E-8873-E3A2001C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20E-9C52-4050-ADE3-B9F475D7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4C4-49A9-4609-BEFA-9B417119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879-1ED6-4BEB-81CE-93F51C22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9B31-B221-4073-8341-EBFA788199B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410" t="7707" r="8564" b="23399"/>
          <a:stretch/>
        </p:blipFill>
        <p:spPr>
          <a:xfrm>
            <a:off x="7667640" y="0"/>
            <a:ext cx="1297080" cy="17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76500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9185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Diwani Bent"/>
              </a:rPr>
              <a:t>بسم الله الرحمن الرحي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ورقة عمل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يل البيانات ونظم الأعدا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لاسم:....................................................                       الصف:................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أول</a:t>
            </a: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ea typeface="AGA Dimnah Regula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قرئي العبارات التالية و أحيطي الإشارة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صحيحة وأحيطي الإشارة 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خاطئ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ني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كملي الفراغات التال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وز النظام الثنائي ه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........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اس النظام السادس عشر هو 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ل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حسبي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ي من النظام الثنائي الى النظام العشري 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844640"/>
            <a:ext cx="439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2708280"/>
          <a:ext cx="7656480" cy="865080"/>
        </p:xfrm>
        <a:graphic>
          <a:graphicData uri="http://schemas.openxmlformats.org/drawingml/2006/table">
            <a:tbl>
              <a:tblPr/>
              <a:tblGrid>
                <a:gridCol w="6481440"/>
                <a:gridCol w="358920"/>
                <a:gridCol w="81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س النظام السادس عشر هو العدد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بايت الواحد تساو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بي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24000" y="476280"/>
            <a:ext cx="1152360" cy="7920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3640" y="836640"/>
            <a:ext cx="115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477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27:13Z</dcterms:created>
  <dc:creator>norah</dc:creator>
  <dc:description/>
  <dc:language>en-US</dc:language>
  <cp:lastModifiedBy>شوشو</cp:lastModifiedBy>
  <dcterms:modified xsi:type="dcterms:W3CDTF">2007-01-01T15:56:08Z</dcterms:modified>
  <cp:revision>64</cp:revision>
  <dc:subject/>
  <dc:title>عرض تقديمي من PowerPoint</dc:title>
</cp:coreProperties>
</file>